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7FE-0FB0-467B-964A-BB910406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8BF-5A27-4980-8E6C-0B932A9D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DA7-8786-4946-90EC-23A7E35D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AB4-FD50-4180-95B6-DEC7A0ED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287C-4FE7-4556-9159-0ED28954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1D9-00AB-43DA-9F09-C31E2C9C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7B15-3FFC-4CFB-97B0-DC020C5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E0D-FDB3-46BB-9BE2-7A19618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340-52DD-40E1-96AB-AD969897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C55D-DA3A-4362-904F-75D0A623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3435-C3AD-49EC-9FA5-560E583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E2B-E079-4592-AB73-DEA516F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585A-2D13-4BD0-AA3C-6B63033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A20B-FC8B-4FE8-B2BC-87BD1E82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FABA-1946-4BAE-990D-8B096925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8AD0-FD6F-4337-9F71-008D9FCC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5007-8A9E-4B0B-AFE6-02A1AC47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F12-CBD1-4076-9CA0-1A191099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3B5-FF4F-4D0E-B5DD-7074B7C5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656-D47A-4424-BCB0-C8C41D0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DFF-B9EF-425B-B3C1-75829E56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95E-ECD2-414C-ACCB-A975C98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866-4E51-4CF7-851C-165BD1E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6A1-D373-4EA8-812B-D3749930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6F1-D615-4487-9718-808A4246CA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D9F1-1B74-4A7B-97CB-6F3D9A318F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youtube.com/watch?v=Co-KejT%5B7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rica and the Atlantic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13040" cy="22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BB58-E6A0-4FC7-9F33-7E88283D6034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Kingdoms in South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ieftains develop trade with Swahili city-sta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300: Great Zimbabw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utch build Cape Town in 1652, increased involvement with southern African politic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counter Khoikhoi people (“Hottentots”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ish colonies also develo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C27-D708-4825-AAD5-785163C1370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slam in Sub-Sahara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-Islamic paganism, ancestor worshi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lam develops in commercial cent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buktu becomes major center of Islamic scholarship by 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traditions and beliefs blended into Isl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nder relations, standards of female modes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E30-4ED3-4F39-AA20-9A1ADF1BBBB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ulani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to impose strict adherence to Islamic norms in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680 begins military campaigns to enforc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hari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west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iderable influence extends to south as wel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73680" y="3429000"/>
            <a:ext cx="2470320" cy="325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2328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295-7016-487D-ACB4-F3A4DD59A338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ristianity in Sub-Sahara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ke African Islam, syncretic with African belief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onian movement flourishes early 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nded by Doña Beatriz, claims possession by St. Anthony of Padua (1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 Franciscan preacher, patron saint of Portug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motes distinctly African Christian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esus a black man, Kongo the holy land, heaven for Africa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ristian missionaries persuade King Pedro IV of Kongo to burn her at the stak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92F-D6F1-40A0-BBBF-16665FEF437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Change in Early Moder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de with Europeans brings new goods to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crops from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ioc becomes staple bread flo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creased food supply boosts population growth despite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776240" cy="2200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905120" cy="131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D0A-7F57-4146-A482-38EE58958E94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tion Growth i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48C-93F2-4557-9E68-DC70984C812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Foundations of the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slavery dates to antiqu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ar captives, criminals, people expelled from cla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tinct from Asian, European slav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private property, therefore wealth defined by human labor potential, not 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laves often assimilated into owner’s cl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975-5DB8-49CA-8CD4-ED7484304D96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Islamic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ramatic expansion of slave trade with Arab trad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slaves acquired by raiding villages, selling on Swahili coa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ab traders depend on African infrastructure to maintain supp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ropean demand on west coast causes demand to rise agai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FB8-702D-483E-9BBA-559C21ED928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rab Slave Trad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5600" y="1600200"/>
            <a:ext cx="57528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2A6-46C5-40A6-8A09-04CC91BC312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Early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rtuguese raid west African coast in 1441, take 12 me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t with stiff resi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dealers ready to provide sla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60: 500 slaves per year sold to work as miners, porters, domestic servants in Spain and Portug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20: 2,000 per year to work in sugarcane plantations in the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36C-D56D-41A1-95EE-7637570DB01E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 states, 1500-1650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920" y="1143000"/>
            <a:ext cx="453852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66E-1418-419D-87BA-64FFD0F4D12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laves at Work in a M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9F6-62F0-4D9B-AE62-9F77BB9C42F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Triangular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. European manufactured goods (especially firearms) sent to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. African slaves purchased and sent to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3. Cash crops purchased in Americas and returned to Eu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6668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36C-C173-4465-8FB1-94A8086EC048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tlantic Slave Trade, 1500-1800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4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0EF-5A4A-42AE-91E1-22AD6784662D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Middle Passage (Africa-America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slaves captured by raiding parties, force-marched to holding pens at coa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ddle passage under horrific condi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-6 wee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rtality initially high, often over 50%, eventually declined to 5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tal slave traffic, 1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1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.: 12 mill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proximately 4 million killed before arriv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/>
          </p:cNvPr>
          <p:cNvSpPr/>
          <p:nvPr/>
        </p:nvSpPr>
        <p:spPr>
          <a:xfrm>
            <a:off x="2137320" y="57913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Vo-JejTp7O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C6A-55B3-4807-95A7-EDB3944590C1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 Slave Export per Ye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3440"/>
          <a:ext cx="82501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3440"/>
                    <a:ext cx="82501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D37-BD87-4966-821C-D67378E61481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mpact on African Reg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wanda, Bugunda, Masai, Turkana resist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nefit from distance from slave ports on western coa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 societies benefit from slave trade prof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sante, Dahomey, Oyo peop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6FC-F80B-4256-AB55-B81D437CF50E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Effects of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tal African population expands due to importation of American cro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t millions of captured Africans removed from society, deplete regional popul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torted sex ratios resul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/3 of slaves male, 14-35 years of 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couraged polygamy, women acting in traditionally male ro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21B-F02E-41F0-924A-E6A375E5B4E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litical Effects of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troduction of firearms increases violence of pre-existing conflic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re weapons, more slaves; more slaves, more weap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ahomey people create army dedicated to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94160" cy="5181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36368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18F-A577-4FA1-9207-34598BFEF48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 Slaves in Plantation Societ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st slaves in tropical and subtropical reg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plantation established in Hispaniola (Haiti, Dominican Republic) 151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ter Mexico, Brazil, Caribbean and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gar major cash cro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ter: tobacco, rice, indigo, cotton, coffe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tations heavily dependent on slave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cial divisions of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3A5-CE23-40EC-A917-33F7163D2AE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estinations of African Slav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EDE-A6EF-4660-B4A5-D1AF3A2C83A1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The States of West Africa and East Africa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ed over 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ingdom of Ghan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t related to modern State of Gha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jor Gold Tra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li Empire, 1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nghay Empire, 1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nni Ali (r. 1464-1493) created effective army, nav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usket-bearing Moroccan army destroys Songhay forces, regional city-states exert local contro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6BD-A07B-4EDA-AEA2-64F07B1A825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Differenc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ribbean, South America: African population unable to maintain numbers through natural mea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laria, yellow fev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utal working conditions, sanitation, nutri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nder imbal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ant importation of sla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rth America: less disease, more normal sex rati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lave families encouraged as prices rise in 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477-52A2-4957-88C8-D0AFA6453168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sistance to Slav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-hearted work eff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bot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ight (Maroon population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vol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2736720" cy="3124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4419360"/>
            <a:ext cx="52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oon was a name given to so-called "wild and unruly" runaway slaves who escaped into remote areas of Brazil, Surinam and Jamaica where they established free communiti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C3B-AD2D-449E-AC36-DF3B44401473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lave Revol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nly one successful revol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-controlled St.-Domingue (1793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named Hait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lsewhere, revolts outgunned by Euro-American firepo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28144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DFC-FC8C-4BEF-90EE-26AF60DA2F4A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-American Cul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versity of African cultures concentrated in slave popul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lend of cultures – hybridization of cul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languages when numbers permit, otherwise European language adapted with African influen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reole languages (French and African Dialec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ristianity adapted to incorporate African tradi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5D3-19D1-4B34-8D72-8804429BDC8D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bolition of Slav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laudah Equiano (1745-1797), former slave authors best-selling autobiograph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oquent attacks on institution of slave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conomic costs of slavery incr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litary expenses to prevent rebell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: price of sugar falls, price of slaves ris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age labor becomes more effici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age-earners can spend income on manufactured goo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BA8-2885-4C5B-B2B3-A2F833352E44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nd of the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nmark abolishes slave trade in 1803, followed by Great Britain (1807), United States (1808), France (1814), Netherlands (1817), Spain (1845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ssession of slaves remains leg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andestine trade continues to 18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mancipation of slaves begins with British colonies (1883), then French (1848), U.S. (1865), Brazil (188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udi Arabia and Angola continue to the 1960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119-8625-4758-AF5F-03EF104DFEED}" type="slidenum">
              <a:t>35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wahili Decline in East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rtuguese Vasco da Gama skirmishes with Africans on eastern coast, 1497-1498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02 returns, forces Kilwa to pay tribut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05 Portuguese gunships dominate Swahili por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454-FDDA-4EFC-A9A0-BED85EC3881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Kingdom of Kongo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lations with Portuguese beginning 148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ing Nzinga Mbemba (Alfonso I, r. 1506-1542) converts to Christian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ful connection with Portuguese intere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t zealous convert, attempts to convert population at lar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0" y="4419720"/>
            <a:ext cx="13352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C32-369D-4996-9A5E-04C3877D2E40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477120" cy="452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AD3-8A33-4CBF-89B7-D3E4B9DBA88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The King of Kongo and European Ambassador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4F2-2040-4361-A885-D5DED37F0EC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lave Raiding in Kongo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itial Portuguese attempts at slave raid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on discovered it is easier to trade weapons for slaves provided by African trad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alt with several authorities besides Kong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ongo kings appeal without success to slow, but not eliminate,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lations deteriorate, Portuguese attack Kongo and decapitate king in 166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proved slave market develops in the so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E5D-5ACB-400D-897F-ABD33345964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Kingdom of Ndongo (Angola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dongo gains wealth and independence from Kongo by means of Portuguese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t Portuguese influence resisted by Queen Nzinga (r. 1623-1663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sed as male King, with male concubines in female dress attending 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zinga establishes temporary alliance with Dutch in unsuccessful attempt to expel Portugue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cline of Ndongo power after her dea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999-8B93-46DB-9F43-2AFB4E5FBE82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4:00:18Z</dcterms:created>
  <dc:creator>Henry Abramson</dc:creator>
  <dc:description/>
  <dc:language>en-US</dc:language>
  <cp:lastModifiedBy>ripkensa</cp:lastModifiedBy>
  <dcterms:modified xsi:type="dcterms:W3CDTF">2010-02-25T16:46:40Z</dcterms:modified>
  <cp:revision>10</cp:revision>
  <dc:subject/>
  <dc:title>Chapter 26</dc:title>
</cp:coreProperties>
</file>